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2590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2-17-01-nnnnn, iii_xxxxx_v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419040" cy="4762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6248520" y="655308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s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302680" y="0"/>
            <a:ext cx="841320" cy="84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600" spc="-1" strike="noStrike">
                <a:solidFill>
                  <a:srgbClr val="000000"/>
                </a:solidFill>
                <a:latin typeface="Times New Roman"/>
              </a:rPr>
              <a:t>Class A jitter scenario continued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220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Stein Gj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Bjornar Liba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Petter Tei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July 1.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62120" y="4565520"/>
            <a:ext cx="61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scenario as yesterda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http://www.ifi.uio.no/~steing/rpr/sim_res.p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Times New Roman"/>
              </a:rPr>
              <a:t>Next page shows  the STQ depth and </a:t>
            </a:r>
            <a:br>
              <a:rPr sz="3200"/>
            </a:br>
            <a:r>
              <a:rPr b="0" lang="nb-NO" sz="3200" spc="-1" strike="noStrike">
                <a:solidFill>
                  <a:srgbClr val="000000"/>
                </a:solidFill>
                <a:latin typeface="Times New Roman"/>
              </a:rPr>
              <a:t>Shaper D value of station 6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Top plot shows (in colour) how the 3% (30 Mbit/sec) class A traffic from stations 31 to 60 arrives at station 62 AND (in black) how the 1% (10 Mbit/sec) class A traffic from station 61 arrives at station 6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Middle plot shows the shaper D value of station 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Bottom plot shows the STQ size of station 61</a:t>
            </a:r>
            <a:br>
              <a:rPr sz="2400"/>
            </a:b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Conclusion: Station 61 are not allowed to send A frames because the STQ is completely full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321760" cy="1828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52280" y="1828800"/>
            <a:ext cx="8153640" cy="2286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380880" y="4191120"/>
            <a:ext cx="79250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000" spc="-1" strike="noStrike">
                <a:solidFill>
                  <a:srgbClr val="000000"/>
                </a:solidFill>
                <a:latin typeface="Times New Roman"/>
              </a:rPr>
              <a:t>Now, shape secondary transit traffic with shaper D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Modify condition in row 15 in table 6.29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Frame = Dequeue(TX_STQ) &amp;&amp; sendD !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Not shaping secondary transit when needy (spaceInSTQ &lt; MTU_SIZ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Not shaping PTQ</a:t>
            </a:r>
            <a:br>
              <a:rPr sz="2800"/>
            </a:br>
            <a:br>
              <a:rPr sz="2800"/>
            </a:b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Results on next page</a:t>
            </a:r>
            <a:br>
              <a:rPr sz="2800"/>
            </a:b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(notice that the STQ size is still only 12.5 Mbyt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7925040" cy="2057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28600" y="0"/>
            <a:ext cx="8077320" cy="2320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33520" y="4191120"/>
            <a:ext cx="784836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s from previous pag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shaper D shapes STQ, the STQ size increase faster (no surpri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shaper D still becomes negative when the STQ fills completely (because shaper D then does not shape STQ any more, shaper D is then only decreas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Times New Roman"/>
              </a:rPr>
              <a:t>Now, increase STQ-si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on suggestion from Mike Takef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Q is now increased from 12.5KB to 256K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ill shaper D shapes ST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 page sh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: Station 31 to 61 packets arrival at station 62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notice the nice horizontal 10Mbit/s traffic (black line) from station 6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tom: STQ utilization in station 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shown: shaper D, which oscillates around normal values, and never becomes negativ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137800" cy="33526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09480" y="3352680"/>
            <a:ext cx="767736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large STQs and shaping of STQ  (by shaper D), class A jitter from station 61 is eliminated!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ill some jitter in the class A traffic from stations 31 to 6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be further investig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4T01:17:08Z</dcterms:created>
  <dc:creator>Stein Gjessing</dc:creator>
  <dc:description/>
  <dc:language>en-US</dc:language>
  <cp:lastModifiedBy>Stein Gjessing</cp:lastModifiedBy>
  <cp:lastPrinted>2000-12-07T16:39:27Z</cp:lastPrinted>
  <dcterms:modified xsi:type="dcterms:W3CDTF">2003-07-01T16:31:56Z</dcterms:modified>
  <cp:revision>53</cp:revision>
  <dc:subject/>
  <dc:title>IEEE 802.17 class A jitter scenario</dc:title>
</cp:coreProperties>
</file>