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-17-01-nnnnn, iii_xxxxx_v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 A jitter scen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Simula RPR V2.3  Java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s implementing the scena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jornar Liba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ter Te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“cls09_fairness1.pdf”  dated june 23. 2003 from Dave Jam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PR version 2.3, the D shaper does not shape the transit traffic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believe this results in the class A jitter shown. We are in the process of changing the simulator so that shaper D will shape the STQ traffic. Results from these simulations are hopefully available tomorro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June 31.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2920" y="692280"/>
            <a:ext cx="8785080" cy="576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63640" y="8100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Q size 25 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lass A1 traffic has a long period from time 12 ms in which it is not allowed to s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12.5 Kbyte STQ size this lasts about 20 m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25 Kbyte STQ size this is  lasts about 50 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0 traffic from S61 to S62 behaves as the class A1 traf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per D running negative is probably the cause for the class A1 del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y tuned for results when shaper D shapes STQ traf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rom Harry Pe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997360"/>
            <a:ext cx="87631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 km between  S30 and S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m between S1 and S2, S2 and S3, …. S29 and S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m between S31and S32, …., S61 and S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us per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M lin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distance:  1940 + 29+ 31 =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Q size = 1% off Ring circumfer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.01(5e-6 [s/km] * 2000 [km] * 1e9 [bit/s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0 kbits or  12.5 kilo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61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) Dual Queu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364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7" idx="6"/>
            <a:endCxn id="48" idx="2"/>
          </p:cNvCxnSpPr>
          <p:nvPr/>
        </p:nvCxnSpPr>
        <p:spPr>
          <a:xfrm>
            <a:off x="682200" y="2403000"/>
            <a:ext cx="181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08764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8" idx="6"/>
            <a:endCxn id="50" idx="2"/>
          </p:cNvCxnSpPr>
          <p:nvPr/>
        </p:nvCxnSpPr>
        <p:spPr>
          <a:xfrm>
            <a:off x="1402920" y="2403000"/>
            <a:ext cx="685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80656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0" idx="6"/>
            <a:endCxn id="52" idx="2"/>
          </p:cNvCxnSpPr>
          <p:nvPr/>
        </p:nvCxnSpPr>
        <p:spPr>
          <a:xfrm>
            <a:off x="2627280" y="2403000"/>
            <a:ext cx="18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13080" y="25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5800" y="25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9092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1164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6" idx="6"/>
            <a:endCxn id="57" idx="2"/>
          </p:cNvCxnSpPr>
          <p:nvPr/>
        </p:nvCxnSpPr>
        <p:spPr>
          <a:xfrm>
            <a:off x="4930920" y="2403000"/>
            <a:ext cx="181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33564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7" idx="6"/>
            <a:endCxn id="59" idx="2"/>
          </p:cNvCxnSpPr>
          <p:nvPr/>
        </p:nvCxnSpPr>
        <p:spPr>
          <a:xfrm>
            <a:off x="5651640" y="2403000"/>
            <a:ext cx="684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05492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875640" y="2403000"/>
            <a:ext cx="18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4861080" y="25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69080" y="256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2" idx="6"/>
            <a:endCxn id="56" idx="2"/>
          </p:cNvCxnSpPr>
          <p:nvPr/>
        </p:nvCxnSpPr>
        <p:spPr>
          <a:xfrm>
            <a:off x="3346200" y="2403000"/>
            <a:ext cx="1045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777564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1" idx="6"/>
            <a:endCxn id="66" idx="2"/>
          </p:cNvCxnSpPr>
          <p:nvPr/>
        </p:nvCxnSpPr>
        <p:spPr>
          <a:xfrm>
            <a:off x="7594200" y="2403000"/>
            <a:ext cx="181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849636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6"/>
            <a:endCxn id="68" idx="2"/>
          </p:cNvCxnSpPr>
          <p:nvPr/>
        </p:nvCxnSpPr>
        <p:spPr>
          <a:xfrm>
            <a:off x="8314920" y="2403000"/>
            <a:ext cx="181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471840" y="186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95640" y="14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0000" y="144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87680" y="143352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62864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095640" y="162864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14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15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5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97080" y="119700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6000" y="173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50920" y="17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8" idx="6"/>
            <a:endCxn id="47" idx="2"/>
          </p:cNvCxnSpPr>
          <p:nvPr/>
        </p:nvCxnSpPr>
        <p:spPr>
          <a:xfrm flipH="1">
            <a:off x="142200" y="2403000"/>
            <a:ext cx="8893800" cy="2520"/>
          </a:xfrm>
          <a:prstGeom prst="curvedConnector5">
            <a:avLst>
              <a:gd name="adj1" fmla="val -303"/>
              <a:gd name="adj2" fmla="val -15700000"/>
              <a:gd name="adj3" fmla="val -3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453080" y="256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10520" y="254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9800" y="14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14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73800" y="16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16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4360" y="141300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49080" y="137628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62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00720" y="15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52360" y="134136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00720" y="162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scenario inf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0 to S30 are producing at full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1 to S60 clients are producing A1 traffic at 3% of line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61 client is producing A0 traffic at 1% of line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ac clients have small add buffers (two fram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TQ sizes: 12.5 Kbytes and 25 K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PR parameters are de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Times New Roman"/>
              </a:rPr>
              <a:t>The next 6 pages s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3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ass A1 traffic from S 31 to S60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(STQ = 12.5 Kbytes)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ass C traffic from S1 to S30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(STQ = 12.5 Kbytes)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ass A0 traffic from S61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(STQ = 12.5 Kbytes)</a:t>
            </a:r>
            <a:br>
              <a:rPr sz="1600"/>
            </a:b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ass A1 traffic from S 31 to S60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(STQ = 25 Kbytes)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ass C traffic from S1 to S30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(STQ = 25 Kbytes)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ass A0 traffic from S61 </a:t>
            </a: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(STQ = 25Kbytes)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0240" y="47671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are plotted when they reach Station 6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gend shows the send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332080"/>
            <a:ext cx="24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604360" cy="5905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50920" y="18900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Q size 12.5 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2920" y="333360"/>
            <a:ext cx="8785080" cy="626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63640" y="8100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Q size 12.5 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2920" y="260280"/>
            <a:ext cx="8605800" cy="6337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3640" y="8100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Q size 12.5 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708120"/>
            <a:ext cx="8928000" cy="583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63640" y="152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Q size 25 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2920" y="657360"/>
            <a:ext cx="8750160" cy="565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63640" y="152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Q size 25 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Stein Gjessing</dc:creator>
  <dc:description/>
  <dc:language>en-US</dc:language>
  <cp:lastModifiedBy>Stein Gjessing</cp:lastModifiedBy>
  <cp:lastPrinted>2000-12-07T16:39:27Z</cp:lastPrinted>
  <dcterms:modified xsi:type="dcterms:W3CDTF">2003-06-30T15:50:17Z</dcterms:modified>
  <cp:revision>43</cp:revision>
  <dc:subject/>
  <dc:title>IEEE 802.17 class A jitter scenario</dc:title>
</cp:coreProperties>
</file>